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697-C501-43AE-ACA5-DA00229A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8C0-79F5-4FE7-BCFF-D0EF7FA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3C3-CA60-4B9F-B39D-A3CC39F2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CDC-2F85-4544-BB4A-5BA8DF72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39E-AE9A-49CD-90BF-0B706FA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6D5-20D0-40BA-9FD0-04F726B0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5A3-0369-41D2-AD69-60F9EC6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809-DEBC-4D3A-8470-0775F46D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3DA-2898-4451-AA3D-AAB5CF7F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AF3-CA08-4CF5-93E3-20738C3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099-1336-4788-B00F-A55C41E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DE8-A5F0-48E7-86CB-0D98BBA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AC3C-6A7B-4A9F-BE80-085CFB6B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2520" y="1143000"/>
            <a:ext cx="177840" cy="6343560"/>
          </a:xfrm>
          <a:custGeom>
            <a:avLst/>
            <a:gdLst/>
            <a:ahLst/>
            <a:rect l="l" t="t" r="r" b="b"/>
            <a:pathLst>
              <a:path w="128" h="3904">
                <a:moveTo>
                  <a:pt x="0" y="0"/>
                </a:moveTo>
                <a:lnTo>
                  <a:pt x="128" y="3904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6400" y="7162920"/>
            <a:ext cx="15735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7 53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7800" y="990720"/>
            <a:ext cx="15735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9 06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267080"/>
            <a:ext cx="609480" cy="152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5000" y="4038480"/>
            <a:ext cx="157356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8 30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4120" y="1066680"/>
            <a:ext cx="141228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0420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6920" y="4191120"/>
            <a:ext cx="141228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0800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080" y="7315200"/>
            <a:ext cx="141228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1150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920" y="3505320"/>
            <a:ext cx="2265480" cy="45972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t Link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8862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7543800"/>
            <a:ext cx="609480" cy="152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1066680"/>
            <a:ext cx="609480" cy="152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600" y="5257800"/>
            <a:ext cx="3692160" cy="825480"/>
          </a:xfrm>
          <a:prstGeom prst="rect">
            <a:avLst/>
          </a:prstGeom>
          <a:solidFill>
            <a:srgbClr val="ffffff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d Enroute 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FL190 and FL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29080" y="8777160"/>
            <a:ext cx="1508040" cy="3682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19:41Z</dcterms:created>
  <dc:creator>Valued Gateway Client</dc:creator>
  <dc:description/>
  <dc:language>en-US</dc:language>
  <cp:lastModifiedBy>Beed</cp:lastModifiedBy>
  <dcterms:modified xsi:type="dcterms:W3CDTF">2006-01-23T17:45:49Z</dcterms:modified>
  <cp:revision>9</cp:revision>
  <dc:subject/>
  <dc:title>PowerPoint Presentation</dc:title>
</cp:coreProperties>
</file>